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4E4-640C-4306-9F40-F85CABD0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C9A-970E-4CAA-AAD9-A862CC38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276-E647-4475-B94E-C258C48C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0E2-A243-4B2A-833C-B03A4F6C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69DB-CFC3-4E6F-B12A-94C9C2A9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CB24-BC6E-4ADB-81D7-86C9718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DE7D-71DD-4326-B13D-01F3A34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F50-4004-46EB-9C12-4C663C9F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9A0-69A5-4964-A8A7-0837AB3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5C77-76D1-42C4-AF2C-AF9BCCC5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524-EF0B-424A-A40B-8844117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A8F-3DE8-4E9D-9471-CA601B4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0BA7-42A9-4550-8CDE-200139A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187-0E26-45C0-92AB-060AEA1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5779-6A29-4321-93A2-78B2C76D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219-FA98-46D8-AE4D-AEA1D63F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CD9-62DF-4CC3-999E-FF390BCB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D46-CB26-46E5-8288-939741D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731-FDC2-4688-A189-DC335EC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065-032E-4B75-B6E3-2B0A074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995-A3BD-4343-8B77-E9C6ABF4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4BF-BDD2-467E-B8EB-368DA34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903-BFF1-4729-8778-706374A9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968-46D5-4F09-883D-F63C2DF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7098-F212-40FF-8205-1C25EF3D9529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633-5028-4C70-BC07-9361AED3BF88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670360"/>
          </a:xfrm>
          <a:prstGeom prst="rect">
            <a:avLst/>
          </a:prstGeom>
          <a:ln w="0">
            <a:noFill/>
          </a:ln>
        </p:spPr>
      </p:pic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20840" y="1133640"/>
            <a:ext cx="8600760" cy="2054160"/>
          </a:xfrm>
          <a:prstGeom prst="rect">
            <a:avLst/>
          </a:prstGeom>
          <a:ln w="0">
            <a:noFill/>
          </a:ln>
        </p:spPr>
      </p:pic>
      <p:sp>
        <p:nvSpPr>
          <p:cNvPr id="84" name="Subtitle 2"/>
          <p:cNvSpPr/>
          <p:nvPr/>
        </p:nvSpPr>
        <p:spPr>
          <a:xfrm>
            <a:off x="142884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Book Antiqua"/>
              </a:rPr>
              <a:t>Written by JJ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040" y="52430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When he lost his job, Daddy bought a new car. He wanted to look cool in front of everyone. Mummy didn’t like it thoug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300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42960" y="285840"/>
            <a:ext cx="740088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became sad because she couldn’t buy new thin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361476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ddy tried to make money on the Stock Market, but it didn’t work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76400" y="571680"/>
            <a:ext cx="50245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35712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lost more money. He couldn’t sleep next to Mum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1210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Once upon a time, Daddy was rich and successful. He had many friends and a big hou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286000" y="243000"/>
            <a:ext cx="4500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Now he’s just an old ma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7680" y="1428840"/>
            <a:ext cx="34290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57120" y="54579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Every day, Mummy would go shopping to buy fancy and expensive th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86000" y="571680"/>
            <a:ext cx="4357800" cy="47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35676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liked how Daddy was an officer, and would make him dinner while he sat around in his dirty cloth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14760" y="1857240"/>
            <a:ext cx="3429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214960"/>
            <a:ext cx="822960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couldn’t play with them, so I would watch them while calling out every brand from Chanel to Louis Vuitt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43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wasn’t cool that my Daddy was a Navy officer. He would try to impress everyone with his uniform, but he couldn’t play golf like the other me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500200" y="2259000"/>
            <a:ext cx="40719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55004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wasn’t a real sailing officer, he was an engine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112840" y="500040"/>
            <a:ext cx="50310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4292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ddy left the Navy because Mummy wanted more fancy things. He sat in the bath-tub and played with toy boa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3080" y="1874880"/>
            <a:ext cx="4786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12136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tried to play with Daddy and his Navy sword, but he just played with Mummy, who was happ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28920" y="571680"/>
            <a:ext cx="43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00040" y="35712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he was always happy after buying new thin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507204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2:31:48Z</dcterms:created>
  <dc:creator>jason</dc:creator>
  <dc:description/>
  <dc:language>en-US</dc:language>
  <cp:lastModifiedBy>user</cp:lastModifiedBy>
  <dcterms:modified xsi:type="dcterms:W3CDTF">2010-06-13T12:05:30Z</dcterms:modified>
  <cp:revision>15</cp:revision>
  <dc:subject/>
  <dc:title>Slide 1</dc:title>
</cp:coreProperties>
</file>